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43A-9190-49A2-B545-046785AC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9C2-33A5-4CC4-818E-26470E9B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2BB-9251-4103-97DC-0789EB04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7D05-3349-4FF0-9D73-70F0EE29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47C6-709E-4D72-B8AA-4A4DF4D2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5317-935E-4C40-86D3-1B66A01D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1753-0BB8-460E-8A1C-D21BAD62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D5D5-78DD-4EFA-9E61-816AB9DC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2DB2-17F7-462A-BD1D-1F9EBBAA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8D26-2E98-4FDE-B861-43548312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773B-2DB5-4C8D-A13A-850C98BA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583-9FD6-4ED9-9113-021B7B16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2C3C-E493-4B8F-AE70-20313EF1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3188-C569-4E98-A96A-2A7BF38B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FFAC-3B3E-4841-A86A-A14E52B4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F4EF-A2B7-46ED-A526-B9EB5F27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3A06-2268-4D9A-A2F3-477A3C86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9495-E7E2-49FC-B872-681DF8EA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F46-399D-4173-8A58-FF9AEF5B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AD35-E527-483A-BA63-19426182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453-FEB2-4FC8-A57F-0B6DC493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9D3-035B-410B-9175-EDB40CC4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7D5D-95FC-49EA-9C02-3C8ED0A2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E64D-0A8C-4A73-BC24-36B043DA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F8C6-CE03-49AE-BF84-1EB6D0D4172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0ADC-0397-4C95-836C-303714B43D9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rendlin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other Measure of Growth Rat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DOES THE DATA SHOW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wth rate and trend l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does the growth rate compare to students in the normed sample at the 13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25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50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ercentil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does the trend line indicate that the student is going to achieve proficienc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ademic—25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/30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ercenti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havior—75 percent or 100 perc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s at Level III that approximate special 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end lines: How Do They Show Growth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e that you draw through a series of data points that represents the student’s actual rate of prog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trend line slope is flatter than the aimline, then adjust interv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trend line slope is steeper than the aimline then adjust goal or area of interv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slopes are the same make no ch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11386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end Line Procedures:  Can be done in Excel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 a horizontal line through median of first half of data – form an intersection with vertical 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 a horizontal line through median of second half of data – form an intersection with vertical 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nect the two interse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your decision, is it the same decis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end Lines and Entitlement Criter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d to determine how long it will be before the student’s skills are likely to be profici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quired for Behavior Entitl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used for Academics as wel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cademics, can add student’s current growth rate to the median of the last 3 data points to determine how many weeks it will take the student to meet proficiency standar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:  Short Term Intervention Need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 is in Grade 4 and is receiving intervention in reading flu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3/1/10, the median of the last 3 data points for the student is 6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tudent’s growth rate is 3 words per we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25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ercentile for Spring is 8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6 - 7 weeks, the student is likely to have reached proficiency on this prob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7 – 68 = 1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 X 6   = 1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:  Long-term Intervention Need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 is in Grade 4 and is receiving intervention in reading flu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3/1/10, the median of the last 3 data points for the student is 6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udent’s growth rate is 0.5 words/we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udent will need 36 to 37 weeks to become profici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87 –  68 = 1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0.5 x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36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  1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that time the student will be into the next school year and, possibly, in the next grade level with even more difficult reading passages to mas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:  Long-term Intervention Need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that time the student will be into the next school year and, possibly, in the next grade level with even more difficult reading passages to mas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DOES THE DATA SHOW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arison to peers, e.g. normative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the student above or below the 13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25th/30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50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ercentile for academ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s the student met behavior goa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9:00:06Z</dcterms:created>
  <dc:creator>user</dc:creator>
  <dc:description/>
  <dc:language>en-US</dc:language>
  <cp:lastModifiedBy>user</cp:lastModifiedBy>
  <dcterms:modified xsi:type="dcterms:W3CDTF">2010-09-03T19:00:38Z</dcterms:modified>
  <cp:revision>1</cp:revision>
  <dc:subject/>
  <dc:title>Trendlines</dc:title>
</cp:coreProperties>
</file>